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92A-DA88-41E6-B4E7-510113C6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903-04B8-4EFB-85A3-1C7981F5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D9D-4E2F-4010-A41B-C07BAE4D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725-C3FF-48AF-9A74-A472096D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E6F-BB64-430C-9EE5-53DE449D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628-F050-447B-BF12-16A65773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B27-E508-40B7-9DB8-2725683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FF4-2126-4FA5-810B-DEA1664F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CE8-8B21-4CBF-BBCE-11BE096B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60A-D4B9-490A-8062-BBA6FA15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32D-6A2C-4181-87C9-3CF08FB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0D4-9CE7-4A4E-A938-6C33DA12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3454-02EE-4D77-BD5C-67801F164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Eduard_Uspensky_2.jpg?uselang=ru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"/>
          <p:cNvPicPr/>
          <p:nvPr/>
        </p:nvPicPr>
        <p:blipFill>
          <a:blip r:embed="rId1"/>
          <a:stretch/>
        </p:blipFill>
        <p:spPr>
          <a:xfrm>
            <a:off x="1073160" y="3048120"/>
            <a:ext cx="807084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тешествие на литературном поезде  по книг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дуарда Успенского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рокодил Г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его друзь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ценар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85840" y="380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 своим книгам он писал сценарии к мультфильм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Рыжий, рыжий, конопаты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ластилиновая воро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рокодил Гена и его друзь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Трое из Простокваши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Следствие ведут колоб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Фикси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3440" y="1523880"/>
            <a:ext cx="3722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81280" y="533520"/>
            <a:ext cx="55627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овал Эдуард Николаевич  и стихи сочин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 превзошел ожидания – прекрасный сборник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Разноцветная семе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657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Eduard Uspensky 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380880"/>
            <a:ext cx="2381400" cy="35719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990720" y="41148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сбыться планам помешала болезнь, а 14 августа 2018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дуард Успенский у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у было 8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дуард Успенский. Кто же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095560" cy="3238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2214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2481120" y="3352680"/>
            <a:ext cx="2633760" cy="33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4648320" y="1143000"/>
            <a:ext cx="213336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6"/>
          <a:stretch/>
        </p:blipFill>
        <p:spPr>
          <a:xfrm>
            <a:off x="6858000" y="1143000"/>
            <a:ext cx="223056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8" descr=""/>
          <p:cNvPicPr/>
          <p:nvPr/>
        </p:nvPicPr>
        <p:blipFill>
          <a:blip r:embed="rId7"/>
          <a:stretch/>
        </p:blipFill>
        <p:spPr>
          <a:xfrm>
            <a:off x="5029200" y="42670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9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895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90" name="gudok_parovoza.mp3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ar128181400270473"/>
          <p:cNvPicPr/>
          <p:nvPr/>
        </p:nvPicPr>
        <p:blipFill>
          <a:blip r:embed="rId1"/>
          <a:stretch/>
        </p:blipFill>
        <p:spPr>
          <a:xfrm>
            <a:off x="3048120" y="26668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___1_~1"/>
          <p:cNvPicPr/>
          <p:nvPr/>
        </p:nvPicPr>
        <p:blipFill>
          <a:blip r:embed="rId2"/>
          <a:stretch/>
        </p:blipFill>
        <p:spPr>
          <a:xfrm>
            <a:off x="6477120" y="91440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-_1_~1"/>
          <p:cNvPicPr/>
          <p:nvPr/>
        </p:nvPicPr>
        <p:blipFill>
          <a:blip r:embed="rId3"/>
          <a:stretch/>
        </p:blipFill>
        <p:spPr>
          <a:xfrm>
            <a:off x="152280" y="3886200"/>
            <a:ext cx="2746440" cy="279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гадай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Очень скромная и воспитанная девочка , круглая отличница. У нее тоже не было друзей, потому что она была слишком уж тихой и незаметной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ру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сканирование0006 (2)"/>
          <p:cNvPicPr/>
          <p:nvPr/>
        </p:nvPicPr>
        <p:blipFill>
          <a:blip r:embed="rId1"/>
          <a:stretch/>
        </p:blipFill>
        <p:spPr>
          <a:xfrm>
            <a:off x="2666880" y="1447920"/>
            <a:ext cx="3652920" cy="484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Как-то вечером на огонёк зашёл высокий рыжий гражданин с блокнотом в руках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рреспонд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сканирование0005"/>
          <p:cNvPicPr/>
          <p:nvPr/>
        </p:nvPicPr>
        <p:blipFill>
          <a:blip r:embed="rId1"/>
          <a:stretch/>
        </p:blipFill>
        <p:spPr>
          <a:xfrm>
            <a:off x="2819520" y="1295280"/>
            <a:ext cx="331452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 себя, как я понял прочит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узнать о писателе са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ь других ребят, кто ещё не прочитал эти книги обязательно их пр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зоопарке жил очень злой и глупый зверь. Его по воскресеньям кормила Шапокляк, стараясь приручи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осорог Птен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канирование0006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525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рязный, никому ненужный зверь, который сидел на мостовой и тихонько плака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бачка Тоб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сканирование0007"/>
          <p:cNvPicPr/>
          <p:nvPr/>
        </p:nvPicPr>
        <p:blipFill>
          <a:blip r:embed="rId1"/>
          <a:stretch/>
        </p:blipFill>
        <p:spPr>
          <a:xfrm>
            <a:off x="2743200" y="1447920"/>
            <a:ext cx="3503520" cy="4800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олстый крокодил, который работал в зоопарке во вторую смену и любил читать книги. Как его зову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рокодил Ва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сканирование0008"/>
          <p:cNvPicPr/>
          <p:nvPr/>
        </p:nvPicPr>
        <p:blipFill>
          <a:blip r:embed="rId1"/>
          <a:stretch/>
        </p:blipFill>
        <p:spPr>
          <a:xfrm>
            <a:off x="1676520" y="1752480"/>
            <a:ext cx="5919840" cy="4050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 комнату вошёл большой-пребольшой лев в пенсне и шляпе». Как его зва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ев Чан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канирование0009"/>
          <p:cNvPicPr/>
          <p:nvPr/>
        </p:nvPicPr>
        <p:blipFill>
          <a:blip r:embed="rId1"/>
          <a:stretch/>
        </p:blipFill>
        <p:spPr>
          <a:xfrm>
            <a:off x="2362320" y="1295280"/>
            <a:ext cx="433368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ленькая, очень серьёзная девочка, которая работает в детском театр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а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сканирование0010"/>
          <p:cNvPicPr/>
          <p:nvPr/>
        </p:nvPicPr>
        <p:blipFill>
          <a:blip r:embed="rId1"/>
          <a:stretch/>
        </p:blipFill>
        <p:spPr>
          <a:xfrm>
            <a:off x="2971800" y="1371600"/>
            <a:ext cx="310680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спенско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_________________49de67dd220c0"/>
          <p:cNvPicPr/>
          <p:nvPr/>
        </p:nvPicPr>
        <p:blipFill>
          <a:blip r:embed="rId1"/>
          <a:stretch/>
        </p:blipFill>
        <p:spPr>
          <a:xfrm>
            <a:off x="1828800" y="182880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 комнату просуну-лась какая-то странная голова с короткими рожками и длинными подвижными ушами. Она понюхала цветы, стоявшие на окне»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Жирафа Аню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сканирование0013"/>
          <p:cNvPicPr/>
          <p:nvPr/>
        </p:nvPicPr>
        <p:blipFill>
          <a:blip r:embed="rId1"/>
          <a:stretch/>
        </p:blipFill>
        <p:spPr>
          <a:xfrm>
            <a:off x="2971800" y="1295280"/>
            <a:ext cx="2984400" cy="5181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На пороге появился мальчишка. Он был бы совсем обыкновенным, этот мальчишка, если бы он не был необыкновенно растрёпанным и чумазым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воечник Ди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сканирование0015"/>
          <p:cNvPicPr/>
          <p:nvPr/>
        </p:nvPicPr>
        <p:blipFill>
          <a:blip r:embed="rId1"/>
          <a:stretch/>
        </p:blipFill>
        <p:spPr>
          <a:xfrm>
            <a:off x="2971800" y="1295280"/>
            <a:ext cx="3192480" cy="5029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23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Песне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ukraschenie_4"/>
          <p:cNvPicPr/>
          <p:nvPr/>
        </p:nvPicPr>
        <p:blipFill>
          <a:blip r:embed="rId1"/>
          <a:stretch/>
        </p:blipFill>
        <p:spPr>
          <a:xfrm>
            <a:off x="3276720" y="3429000"/>
            <a:ext cx="5057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__________4cbdeeb4ba512"/>
          <p:cNvPicPr/>
          <p:nvPr/>
        </p:nvPicPr>
        <p:blipFill>
          <a:blip r:embed="rId1"/>
          <a:stretch/>
        </p:blipFill>
        <p:spPr>
          <a:xfrm>
            <a:off x="1676520" y="914400"/>
            <a:ext cx="5562360" cy="50734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27" name="Чебурашка плюс.mp3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46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ph1"/>
          <p:cNvPicPr/>
          <p:nvPr/>
        </p:nvPicPr>
        <p:blipFill>
          <a:blip r:embed="rId1"/>
          <a:stretch/>
        </p:blipFill>
        <p:spPr>
          <a:xfrm>
            <a:off x="1523880" y="1676520"/>
            <a:ext cx="6370920" cy="4778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511560"/>
            <a:ext cx="84582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есня Шапокляк.mp3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136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32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gudok_parovoza.mp3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gudok_parovoza.mp3" descr=""/>
          <p:cNvPicPr/>
          <p:nvPr/>
        </p:nvPicPr>
        <p:blipFill>
          <a:blip r:embed="rId4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4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24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24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ff962c65118d"/>
          <p:cNvPicPr/>
          <p:nvPr/>
        </p:nvPicPr>
        <p:blipFill>
          <a:blip r:embed="rId1"/>
          <a:stretch/>
        </p:blipFill>
        <p:spPr>
          <a:xfrm>
            <a:off x="5638680" y="1219320"/>
            <a:ext cx="320832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533520" y="2437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Город Знатоко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дуард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п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5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Родилс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22 декабр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1937 год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в Московской области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Кто он?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1. Что делал Чебурашка около большого фруктового сада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 ящиках с апельсинами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2640" y="2742840"/>
            <a:ext cx="75438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завтрак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обед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ужин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5200" spc="-1" strike="noStrike">
                <a:solidFill>
                  <a:srgbClr val="000000"/>
                </a:solidFill>
                <a:latin typeface="Arial"/>
              </a:rPr>
              <a:t>Где работал Чебурашка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905120"/>
            <a:ext cx="87631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игруше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уценённых            това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одежд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3. Сколько лет крокодилу Гене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210132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. Во что любил играть сам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   с собой крокодил Ген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2514240"/>
            <a:ext cx="73152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морской бой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крестики -нолики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5. На чём готовил кофе Гена в гостях у Чебурашки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251424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 плит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 костр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икроволновк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534520" cy="207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Какую роль исполнял кроко- дил Гена в детском спектак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2438280"/>
            <a:ext cx="7543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бабуш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Красная Шапоч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Любимое животное старухи Шапокл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360" y="2361960"/>
            <a:ext cx="3886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ры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хомя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8. Какая фамилия была у известного доктора, к которому побежала Шапокляк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47560" y="2514240"/>
            <a:ext cx="41907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Иван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Пет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Сидо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9. Кого просил в друзья     двоечник Дим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47560" y="2362320"/>
            <a:ext cx="518148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отли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трое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двое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 Что сделал Гена, чтоб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го не узнавали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243792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пари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маску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новый костюм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27672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2000" y="6091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маленького Эдика была любимая игр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ши – большие, хвост пуговкой, не поймешь, не то заяц, не то соба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ом, неизвестный науке зверь, названный позже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ебураш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38040" y="1752480"/>
            <a:ext cx="3733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4678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1. За сколько секунд Шапокляк забралась на вершину дерева, убегая от носорог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71600" y="2742840"/>
            <a:ext cx="50292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5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10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15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. Сколько времени висела старуха Шапокляк на дерев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9320" y="2590920"/>
            <a:ext cx="40384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62" name="gudok_parovoza.mp3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243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Город Художник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0_8d6d9_1e2f0f91_orig"/>
          <p:cNvPicPr/>
          <p:nvPr/>
        </p:nvPicPr>
        <p:blipFill>
          <a:blip r:embed="rId1"/>
          <a:stretch/>
        </p:blipFill>
        <p:spPr>
          <a:xfrm rot="20110200">
            <a:off x="5029200" y="-152280"/>
            <a:ext cx="30160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сканирование0003 (2)"/>
          <p:cNvPicPr/>
          <p:nvPr/>
        </p:nvPicPr>
        <p:blipFill>
          <a:blip r:embed="rId1"/>
          <a:stretch/>
        </p:blipFill>
        <p:spPr>
          <a:xfrm>
            <a:off x="1905120" y="380880"/>
            <a:ext cx="5483160" cy="6050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66" name="usatyi_nyan_-_vstupitelnaya_tema.mp3" descr=""/>
          <p:cNvPicPr/>
          <p:nvPr/>
        </p:nvPicPr>
        <p:blipFill>
          <a:blip r:embed="rId2"/>
          <a:stretch/>
        </p:blipFill>
        <p:spPr>
          <a:xfrm>
            <a:off x="5335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4381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68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2243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133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0"/>
            </a:br>
            <a:br>
              <a:rPr sz="11000"/>
            </a:br>
            <a:r>
              <a:rPr b="1" lang="ru-RU" sz="11000" spc="-1" strike="noStrike">
                <a:solidFill>
                  <a:srgbClr val="ff0000"/>
                </a:solidFill>
                <a:latin typeface="Arial"/>
              </a:rPr>
              <a:t>Правила</a:t>
            </a:r>
            <a:br>
              <a:rPr sz="11000"/>
            </a:br>
            <a:r>
              <a:rPr b="1" lang="ru-RU" sz="11000" spc="-1" strike="noStrike">
                <a:solidFill>
                  <a:srgbClr val="ff0000"/>
                </a:solidFill>
                <a:latin typeface="Arial"/>
              </a:rPr>
              <a:t>Д </a:t>
            </a:r>
            <a:r>
              <a:rPr b="1" lang="ru-RU" sz="11000" spc="-1" strike="noStrike">
                <a:solidFill>
                  <a:srgbClr val="3333cc"/>
                </a:solidFill>
                <a:latin typeface="Arial"/>
              </a:rPr>
              <a:t>Р </a:t>
            </a:r>
            <a:r>
              <a:rPr b="1" lang="ru-RU" sz="11000" spc="-1" strike="noStrike">
                <a:solidFill>
                  <a:srgbClr val="ff9900"/>
                </a:solidFill>
                <a:latin typeface="Arial"/>
              </a:rPr>
              <a:t>У </a:t>
            </a:r>
            <a:r>
              <a:rPr b="1" lang="ru-RU" sz="11000" spc="-1" strike="noStrike">
                <a:solidFill>
                  <a:srgbClr val="33cc33"/>
                </a:solidFill>
                <a:latin typeface="Arial"/>
              </a:rPr>
              <a:t>Ж </a:t>
            </a:r>
            <a:r>
              <a:rPr b="1" lang="ru-RU" sz="11000" spc="-1" strike="noStrike">
                <a:solidFill>
                  <a:srgbClr val="6600cc"/>
                </a:solidFill>
                <a:latin typeface="Arial"/>
              </a:rPr>
              <a:t>Б </a:t>
            </a:r>
            <a:r>
              <a:rPr b="1" lang="ru-RU" sz="11000" spc="-1" strike="noStrike">
                <a:solidFill>
                  <a:srgbClr val="a50021"/>
                </a:solidFill>
                <a:latin typeface="Arial"/>
              </a:rPr>
              <a:t>Ы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905120" y="682200"/>
            <a:ext cx="464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Помогать друг 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Работать сооб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Уметь договари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Умение радоваться вместе с друз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Новые приключения др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533520" y="134136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Крокодил Гена и его друз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Бизнес крокодила Ге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Отпуск крокодила Гены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Крокодил Гена – лейтенант милиции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Чебурашка уходит в народ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Похищение Чебурашки»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74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243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ём итог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стигли ли мы цел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 себя, как я понял прочит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узнать о писателе са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ь других ребят, кто ещё не прочитал эти книги обязательно их пр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81280" y="456840"/>
            <a:ext cx="54165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 Эдик озорным мальчиком и получал плохие отмет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двоечником быть не хотел, в глубине души он хотел стать академиком или минист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04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7"/>
          <p:cNvPicPr/>
          <p:nvPr/>
        </p:nvPicPr>
        <p:blipFill>
          <a:blip r:embed="rId1"/>
          <a:stretch/>
        </p:blipFill>
        <p:spPr>
          <a:xfrm>
            <a:off x="1073160" y="3048120"/>
            <a:ext cx="8070840" cy="3809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тешествие на литературном поезде  по книг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дуарда Успенского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рокодил Г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его друзь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27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560" y="380520"/>
            <a:ext cx="5568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так упорно занимался, что смог поступить в авиа-ционный институт и стать инжене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года прорабо-тал по специаль-ности, но понял, что делает не свое де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429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морист - пис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81280" y="304920"/>
            <a:ext cx="55627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 Успенский решил стать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зрослым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мори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потом быстро переквалифициро-вался и стал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тским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ател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362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353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80920" y="380520"/>
            <a:ext cx="5410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 одном городе жил крокодил по имени Гена, а работал он в зоопарке крокодилом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к в 1966 году появилась книга «Крокодил Гена и его друзья», прославившая писа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576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58:26Z</dcterms:created>
  <dc:creator>User</dc:creator>
  <dc:description/>
  <dc:language>en-US</dc:language>
  <cp:lastModifiedBy>Пользователь Windows</cp:lastModifiedBy>
  <dcterms:modified xsi:type="dcterms:W3CDTF">2021-07-22T06:50:59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